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184F-7B2A-4F8B-848D-00AFE6CB1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5EF1-1D78-4C78-8E1F-58E9742B7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2749-D1A5-4849-B6CE-4C63E7075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2351-9A83-415D-B1DE-56CB6F186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B1AA-9B03-473B-BC2D-895D0AC80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7D8A-4F25-4C92-8E3C-24C1C0411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1C1-776F-4D67-B344-D40AA6F8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FDB-3BB2-4893-B185-F2FE778C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AC5-6275-4D07-8F1F-64F1CF78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367-5AAC-4048-A2C1-41A2F1D9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9C1-C383-4F9E-84CA-DAC26271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ECB-5427-4431-8C63-95DF34AE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F5A-45C6-41C6-B6AE-54942F59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C13-2428-4820-8F11-07964A8A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C48-D100-4163-AE15-32F3CD37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1EE4-4D7C-4570-9D99-5D08FFBB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394-1A52-471D-97E0-B9CB63B1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37BA-CB0F-45F0-B7C7-8EC911AD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697A-CDEE-4FF7-8BB7-A9A6D684D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georgia.com/history/battleofatlantamap.html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THE BATTLE OF ATLA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295280" y="51055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 Jacob Schub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TLE OF AT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0773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1066680" y="14479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attle of Atlanta took place on July 2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1864 in Atlanta, 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09480" y="2743200"/>
            <a:ext cx="35816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on General- William Tecumseh Sh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man’s goal was to advance towards At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shermanw"/>
          <p:cNvPicPr/>
          <p:nvPr/>
        </p:nvPicPr>
        <p:blipFill>
          <a:blip r:embed="rId1"/>
          <a:stretch/>
        </p:blipFill>
        <p:spPr>
          <a:xfrm>
            <a:off x="1219320" y="4267080"/>
            <a:ext cx="1522440" cy="2057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9"/>
          <p:cNvSpPr/>
          <p:nvPr/>
        </p:nvSpPr>
        <p:spPr>
          <a:xfrm>
            <a:off x="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ngeorgia.com/ang/William_Tecumseh_Sh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4800600" y="2438280"/>
            <a:ext cx="2530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ederate General- John Bell 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od and his men were pressured by Sherman and the union ar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2" descr="john_bell_hood"/>
          <p:cNvPicPr/>
          <p:nvPr/>
        </p:nvPicPr>
        <p:blipFill>
          <a:blip r:embed="rId2"/>
          <a:stretch/>
        </p:blipFill>
        <p:spPr>
          <a:xfrm>
            <a:off x="7020000" y="2819520"/>
            <a:ext cx="2124000" cy="2790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3"/>
          <p:cNvSpPr/>
          <p:nvPr/>
        </p:nvSpPr>
        <p:spPr>
          <a:xfrm>
            <a:off x="4825440" y="5791320"/>
            <a:ext cx="43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ngeorgia.com/ang/John_Bell_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TLE OF AT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Union casualties- 3,6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Confederate casualties- 8,4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realizing that the Union stabilized a line of troops on the Northern end and Southern end of the battlefield General Hood launched an attack to the No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losing so many men and losing ground to the Union forces General Hood called off the attack and ret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ion won the ba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TLE OF AT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Map of the battle of Atlant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447920"/>
            <a:ext cx="4343400" cy="32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battleofatlanta2"/>
          <p:cNvPicPr/>
          <p:nvPr/>
        </p:nvPicPr>
        <p:blipFill>
          <a:blip r:embed="rId3"/>
          <a:stretch/>
        </p:blipFill>
        <p:spPr>
          <a:xfrm>
            <a:off x="4648320" y="1447920"/>
            <a:ext cx="4267080" cy="3284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1143000" y="5791320"/>
            <a:ext cx="61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ngeorgia.com/history/battleofatlant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TLE OF AT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ngeorgia.com/history/battleofatlant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23:18:19Z</dcterms:created>
  <dc:creator>Owner</dc:creator>
  <dc:description/>
  <dc:language>en-US</dc:language>
  <cp:lastModifiedBy>CHSLABA114</cp:lastModifiedBy>
  <dcterms:modified xsi:type="dcterms:W3CDTF">2011-09-14T16:50:57Z</dcterms:modified>
  <cp:revision>3</cp:revision>
  <dc:subject/>
  <dc:title> THE BATTLE OF ATLANTA</dc:title>
</cp:coreProperties>
</file>